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281-7037-43DD-829A-0CE017BF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788-DAC5-4459-AC4E-E3F7D9CE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2F2-F3FA-4446-8A5F-B9340378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F27-EFC5-4061-B5D8-573A753C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1A3-5BB9-490D-B071-558E5D51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533-A153-4C78-A030-006BC66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6E6-C7F7-4DAF-A687-C8FDA599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00D-BB8C-4AB6-A686-16444A08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24B-509F-4CF3-86E4-553543E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09E-7A68-438B-831F-9E7BBC2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47D-695E-47E0-B95D-6C1FEB3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60D-2E4F-46C6-9244-D9F3BB23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8593-C038-4309-B337-D126EE287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7600" y="57168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90720"/>
            <a:ext cx="34448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ا أيها الشعبُ السع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سُرّوا بذا الفِصحِ الم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ذا لكم عهدٌ جد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للــويـــا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"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طوبى لِمَنْ لَم يُبصِروا   وآمنوا واستغفروا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يقولُ ربٌ ظافِرُ  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22860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مدُ للهِ الغَفورْ         ذا فِصْحُنا عيدُ السر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قى على مرِّ الدهور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0800" y="0"/>
            <a:ext cx="6523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4382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ُشرى تَصيحُ المَريماتْ    فيها حياةُ الكائنا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بُ قامَ مِنَ الممات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286000" cy="10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َلَكٌ من العَلْيا بشيرْ        قد دحرجَ الحَجَرَ الكب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 قامَ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ولانا القديرْ                هللــويـ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04920"/>
            <a:ext cx="365760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َريمُ خَلّي النّحيبْ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قد قامَ فادينا الحبيب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العِزِّ والنّصرِ العجيبْ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438280" cy="9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ذْ كانتِ الرُسلُ الكرامْ      من دونِ توما في التِئ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طاهُمُ الربُ السلامْ               هللــ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368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2004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ذ بلّغوا توما الخَبرْ        فَلِقَوْلِهمْ ذا ما اعتبَ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ى له الفادي ظهرْ               هللــويـــا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19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057400" cy="11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ْ قالَ يا توما العنيدْ     انظرْ ودَعْ شَكاً يُبيد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ثبُت بإيمانٍ وطيدْ               هلل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36920" y="0"/>
            <a:ext cx="6607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 لم ترَ لا تعتقد        فكأنّ قولي لَمْ يُفِ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لِضَعفِكَ مُفْتَقِدْ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266688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ما رأى توما المسيح    وشاهَدَ جِسمَ الذّب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الَ إلهي!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للجريح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34:41Z</dcterms:created>
  <dc:creator>SUZANNE.MD</dc:creator>
  <dc:description/>
  <dc:language>en-US</dc:language>
  <cp:lastModifiedBy>HANI SAFI</cp:lastModifiedBy>
  <dcterms:modified xsi:type="dcterms:W3CDTF">2003-04-16T14:06:36Z</dcterms:modified>
  <cp:revision>1</cp:revision>
  <dc:subject/>
  <dc:title>PowerPoint Presentation</dc:title>
</cp:coreProperties>
</file>